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912E1-8F56-4CC2-BD9E-F3BD36071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10681-0944-4983-A33F-D2CD4DEC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070B4-CE69-4D5C-8EF5-841F51E1C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4EE1C-012D-4BB4-B004-6CF52A967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DA50C-F760-4DC7-9556-1E19D48AC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A7A20-9FA8-4E3D-9304-034FA954E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433B9-BB55-4103-8D9A-F6EE0E4AF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7420F-2CE5-4667-99F8-120905154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899F1-5934-4D5D-8E80-3260017B4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6282E-5626-4EA3-9017-BFE71820F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8AC7D-55E0-48A4-9CF1-4B499D330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DEF97-30F4-46D2-8159-3FE638C88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910E4-6530-4688-9A67-18D15CC8B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9FB67-818C-4DB3-A794-EC97E343A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51E34-527B-4B2F-9E4D-51284AC59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49A04-29D1-41E5-857D-F2D98B5F4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59DF8-EEA5-499B-90F2-7ADF281A6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15D5B-1E6A-4FD7-AE26-7ADBB0ED3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1813D-69EF-4BAC-844D-957A0B22E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187B7-255D-4CFA-971D-42BEC8BAC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9E99-011F-4ECE-8679-22C7641EF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3CF6B-A0AC-488E-BF1E-85F49F181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DE12-D5B8-4F2A-A059-6106B4D97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CCED3-E672-4AA6-9BD0-1CFA01A5A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D974-73C2-4C69-81D6-F6645BC080C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C6EC-80FB-4875-A837-87AD938F2B8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Literacy Development</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ventionality</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bies do not start off using conventional language, but through social interactions (the feedback cycle), they develop the ability to use conventional language. For example, children tend to overgeneralize the –ed ending for past tense and say “I goed to the store yesterday” or “I putted my toys back” instead of “I went” or “I put my toys back.”  Through that cycle of feedback, they learn to use the correct versions of the words they hear.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ventionality</a:t>
            </a:r>
            <a:endParaRPr b="0" i="1" lang="en-US" sz="4400" spc="-1" strike="noStrike">
              <a:solidFill>
                <a:srgbClr val="ffcc66"/>
              </a:solidFill>
              <a:latin typeface="Times New Roman"/>
            </a:endParaRPr>
          </a:p>
        </p:txBody>
      </p:sp>
      <p:sp>
        <p:nvSpPr>
          <p:cNvPr id="117" name="PlaceHolder 2"/>
          <p:cNvSpPr>
            <a:spLocks noGrp="1"/>
          </p:cNvSpPr>
          <p:nvPr>
            <p:ph/>
          </p:nvPr>
        </p:nvSpPr>
        <p:spPr>
          <a:xfrm>
            <a:off x="228240" y="2057400"/>
            <a:ext cx="89154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s inventions of this sort indicate that language is not “taught” to children. Children do not merely imitate what they hear.  They take what they know and construct new meanings.  The behaviorists are wrong about language development (they were the ones that thought that children merely imitated what they heard).  If the behaviorists were right, children would not overgeneralize rules—instead, they would say only what they had heard said.  Children don’t hear adults saying “goed” or “putted.”  But many children invent these words when they need to express the past tense of “to go” or “to put.”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ehaviorist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ke a moment to reflect on what you know about behaviorism—you will need this information for Praxis II PLT.  If you are not sure what behaviorism is, then review your Ed. Psych book and the Praxis documents on Blackboard for this clas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ventionality</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milarly, my brother invented the word “chandles” to explain that a lightbulb had burned out of the ceiling fixture.  He knew that candles went in candlesticks, so chandles must go in chandeliers.  He was quite upset when no one understood what he was saying (and then more upset when my mother thought it was cute and reported it to everyone she knew).  This is a good example of how the social context helps children become more conventional in their language use.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re does the drive to use language come from?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sically, language development comes from a drive to solve problems, to meet one’s own desires and needs.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nk about how and why babies communica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begin by crying.  But does this work?  A baby’s cry can mean so many different things:  I’m hungry, I’m tired, My diaper needs to be changed, I’m bored, I’m scared, I have a belly ache because you didn’t burp me correctly, my ear hurt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 what the parents do is that they frantically rush around trying to figure out why the baby is crying.  Check the diaper, check to make sure nothing is pinching, try the bottle, try putting the baby to bed, check for a fever, etc.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can sometimes take a long time for a parent to address the needs of the baby because crying is fairly nonspecific.  This is an impetus for developing languag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bies are immersed in language, surrounded by people who are more competent than they but also by people who speak “parent-ese,” and who scaffold a baby’s language development.  That is what is happening when people speak babytalk to babies:  “Oh, ooo cute wittle fing.  Ooo so cute.  I wuv ooo.”  See how this is a simplified form of English?  It contains approximations of consonant sounds that children find difficult to make, such as the letter L or the TH sound.</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nguage and desire</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is a type of scaffold—show the child an acceptable approximation.  It’s fine when a two year old substitutes  a W sound for the L sound or F for TH.  By the time the kid is five or six, he or she will have a more conventional way of pronouncing words or else the kindergarten teacher will refer the child for speech therapy.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caffold</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caffold is a method of making a task more doable for learners by reducing its complexity.  For example, vibrato is a complex skill for violinists to develop.  Often students have difficulty wiggling the left hand while keeping the right hand (bow arm) </a:t>
            </a:r>
            <a:r>
              <a:rPr b="0" i="1" lang="en-US" sz="2800" spc="-1" strike="noStrike" u="sng">
                <a:solidFill>
                  <a:srgbClr val="ffffcc"/>
                </a:solidFill>
                <a:uFillTx/>
                <a:latin typeface="Times New Roman"/>
              </a:rPr>
              <a:t>from</a:t>
            </a:r>
            <a:r>
              <a:rPr b="0" lang="en-US" sz="2800" spc="-1" strike="noStrike">
                <a:solidFill>
                  <a:srgbClr val="ffffcc"/>
                </a:solidFill>
                <a:latin typeface="Times New Roman"/>
              </a:rPr>
              <a:t> wiggling.  One scaffold is for the teacher to bow the student’s violin while the student is practicing the vibrato.  The student learns the essential part of the skill and then is able to learn all the parts (bowing and doing vibrato simultaneousl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urpose of languag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urpose of language is, of course, communication.  Language’s purpose has a lot to do with how the ability to use language develops in peop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caffold</a:t>
            </a:r>
            <a:endParaRPr b="0" i="1" lang="en-US" sz="44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you are thinking of scaffolding, look at the task and see if you can take it apart.  Ask the child to do just one part of it while someone else (you or a more advanced peer) does the other part of it.  Later the child will be able to do the whole thing him or herself.</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member Vygotsky in connection with scaffolding, when it comes to Praxis II PL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abbling</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e of the first stages of linguistic development is babbling.  Children “try out” their voices and play with the noises they can make.  During the first part of babbling, they use all the phonemes of all the human languages in the world.  Later on, they only use the phonemes in their home language(s).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 in homes where people use American Sign Language babble with their hands (isn’t that ne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abbling</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feedback process and scaffolding are at work during this critical stage.  One critical thing that parents do is to imitate what the baby says.  Babies this age think this is very funny.  They say “babababa” and you say the same thing.  They will do this over and over again, which is how they practice.  This type of exchange encourages them to try and imitate you.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abbling</a:t>
            </a:r>
            <a:endParaRPr b="0" i="1" lang="en-US" sz="4400" spc="-1" strike="noStrike">
              <a:solidFill>
                <a:srgbClr val="ffcc66"/>
              </a:solidFill>
              <a:latin typeface="Times New Roman"/>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pproximation part of the cycle begins during babbling.  This is when parents signal through positive feedback that they are excited about the child’s attempts to communicate.  It is during the babbling stage that parents “recognize” certain words, whether or not that was the child’s intent.  This is how we learn to spea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fter the babbling state, babies use single words to communicate at first. The first words of a baby are always things that are important in their lives.  So each child has a different vocabulary. Kids who live with mom and dad usually but not always have those names as first words.  Children who live with pets will often have the name of the pet as an early word.  There may be an object that is somehow important to the child and that becomes an early word.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single words are actually a kind of shorthand for a longer thought.  The single word “doggie” may mean “look, Mommy, there is a dog” or “the dog is scaring me” or “I want my doggie.”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You can see that single words are far better than crying for communicating with parents.  At least with a single word, the child can give a pretty good hint about where the problem lie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single words are not completely effective as a means of communication.  Parents can’t always figure out what the problem is with just one word as a hint.  The ambiguities in meaning lead to the next stage, two word sentences or telegraphic speec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the old days, when people sent telegrams, they had to pay for each word they sent.  So they left out the connecting words:  ARRIVING COLUMBUS 3:45.  GREYHOUND.</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at was cheaper than, “I will be arriving in Columbus at 3:45 by Greyhound bus.”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 usually put together two word sentences:  “Mommie cookie.”  This might mean “Mommie, give me a cookie” or “Mommie is eating a cookie.”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ldren’s linguistic development</a:t>
            </a:r>
            <a:endParaRPr b="0" i="1" lang="en-US" sz="4400" spc="-1" strike="noStrike">
              <a:solidFill>
                <a:srgbClr val="ffcc66"/>
              </a:solidFill>
              <a:latin typeface="Times New Roman"/>
            </a:endParaRPr>
          </a:p>
        </p:txBody>
      </p:sp>
      <p:sp>
        <p:nvSpPr>
          <p:cNvPr id="151" name="PlaceHolder 2"/>
          <p:cNvSpPr>
            <a:spLocks noGrp="1"/>
          </p:cNvSpPr>
          <p:nvPr>
            <p:ph/>
          </p:nvPr>
        </p:nvSpPr>
        <p:spPr>
          <a:xfrm>
            <a:off x="152280" y="2057040"/>
            <a:ext cx="8305920" cy="426708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wo words together communicates a lot more effectively than a single word.  Yet still misunderstandings can happen and those misunderstandings that are a part of the social context of language help the child move toward conventionality and gaining a larger vocabulary.</a:t>
            </a:r>
            <a:endParaRPr b="0" lang="en-US" sz="2800" spc="-1" strike="noStrike">
              <a:solidFill>
                <a:srgbClr val="ffffcc"/>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nally, by the time a child is about three years old, he or she is speaking in whole sentences across a whole range of verb tenses.  It’s really amazing how quickly children master language, when you consider that they are born helpless and with no language.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iteracy development</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teracy, to a certain extent, is artificial.  It is a visual representation of something that is aural (like the written version of music).  Because of its artificiality, literacy development is typically learned in a more formal way than linguistic development.  It is more difficult to develop and that development takes place at a later stage in life than linguistic development.  That said, there are lots of ways in which literacy development parallels linguistic develop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724280" y="2133720"/>
            <a:ext cx="4191120" cy="396216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ycle of language development</a:t>
            </a:r>
            <a:endParaRPr b="0" i="1" lang="en-US" sz="4400" spc="-1" strike="noStrike">
              <a:solidFill>
                <a:srgbClr val="ffcc66"/>
              </a:solidFill>
              <a:latin typeface="Times New Roman"/>
            </a:endParaRPr>
          </a:p>
        </p:txBody>
      </p:sp>
      <p:sp>
        <p:nvSpPr>
          <p:cNvPr id="98"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nguage development is a cycle (really a spiral, since each go-round leads to greater competenc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ycle works as both a positive and a negative feedback system.</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99" name="" descr=""/>
          <p:cNvPicPr/>
          <p:nvPr/>
        </p:nvPicPr>
        <p:blipFill>
          <a:blip r:embed="rId1"/>
          <a:stretch/>
        </p:blipFill>
        <p:spPr>
          <a:xfrm>
            <a:off x="4876920" y="2209680"/>
            <a:ext cx="3809880" cy="3625920"/>
          </a:xfrm>
          <a:prstGeom prst="rect">
            <a:avLst/>
          </a:prstGeom>
          <a:ln w="0">
            <a:noFill/>
          </a:ln>
        </p:spPr>
      </p:pic>
      <p:sp>
        <p:nvSpPr>
          <p:cNvPr id="100" name=""/>
          <p:cNvSpPr/>
          <p:nvPr/>
        </p:nvSpPr>
        <p:spPr>
          <a:xfrm>
            <a:off x="5791320" y="2209680"/>
            <a:ext cx="1996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tempt to communicate</a:t>
            </a:r>
            <a:endParaRPr b="0" lang="en-US" sz="2400" spc="-1" strike="noStrike">
              <a:solidFill>
                <a:srgbClr val="ffffcc"/>
              </a:solidFill>
              <a:latin typeface="Times New Roman"/>
            </a:endParaRPr>
          </a:p>
        </p:txBody>
      </p:sp>
      <p:sp>
        <p:nvSpPr>
          <p:cNvPr id="101" name=""/>
          <p:cNvSpPr/>
          <p:nvPr/>
        </p:nvSpPr>
        <p:spPr>
          <a:xfrm>
            <a:off x="5943600" y="54864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cept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iteracy development</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teracy development is an extension of oral language development.  It follows a parallel path that is characterized by approximations of adult forms; these approximations move toward conventionality within the social context and over time.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riting development</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Like oral language, children’s written language moves through stages:</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cribbling (like babbling)</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dom letters and pretend letters (often using the letters of their own name if they know these)</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itial sound of the word </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itial sound plus other sounds</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presentation of all sounds</a:t>
            </a:r>
            <a:endParaRPr b="0" lang="en-US" sz="28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derstanding of spelling rules—conventional writing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ding development</a:t>
            </a:r>
            <a:endParaRPr b="0" i="1" lang="en-US" sz="4400" spc="-1" strike="noStrike">
              <a:solidFill>
                <a:srgbClr val="ffcc66"/>
              </a:solidFill>
              <a:latin typeface="Times New Roman"/>
            </a:endParaRPr>
          </a:p>
        </p:txBody>
      </p:sp>
      <p:sp>
        <p:nvSpPr>
          <p:cNvPr id="1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ing can also be approximated—through a child picking up a book she has memorized, or through reading a predictable book that has illustrations (Brown Bear, for instance).  Children might approximate reading by imitating literate behaviors such as turning the pages appropriately, pointing at words, using the pictures to create a story, and so forth.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ding development</a:t>
            </a:r>
            <a:endParaRPr b="0" i="1" lang="en-US" sz="4400" spc="-1" strike="noStrike">
              <a:solidFill>
                <a:srgbClr val="ffcc66"/>
              </a:solidFill>
              <a:latin typeface="Times New Roman"/>
            </a:endParaRPr>
          </a:p>
        </p:txBody>
      </p:sp>
      <p:sp>
        <p:nvSpPr>
          <p:cNvPr id="16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 children start to develop phonological awareness (understandings of letter-sound correspondences) they can begin to “sound out” words.  They are often taught by teachers to use other cues as well, such as looking at the pictures to check their meaning.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ding development</a:t>
            </a:r>
            <a:endParaRPr b="0" i="1" lang="en-US" sz="44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Common reading strategies that teachers teach children: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y the first letter (for emergent readers) or sound it out (for children with more experienc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gure out what word would make sense in the sentenc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ook at the picture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read with your guess to see if it makes sens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 what do you need to remember?</a:t>
            </a:r>
            <a:endParaRPr b="0" i="1" lang="en-US" sz="4400" spc="-1" strike="noStrike">
              <a:solidFill>
                <a:srgbClr val="ffcc66"/>
              </a:solidFill>
              <a:latin typeface="Times New Roman"/>
            </a:endParaRPr>
          </a:p>
        </p:txBody>
      </p:sp>
      <p:sp>
        <p:nvSpPr>
          <p:cNvPr id="165" name="PlaceHolder 2"/>
          <p:cNvSpPr>
            <a:spLocks noGrp="1"/>
          </p:cNvSpPr>
          <p:nvPr>
            <p:ph/>
          </p:nvPr>
        </p:nvSpPr>
        <p:spPr>
          <a:xfrm>
            <a:off x="228240" y="2057400"/>
            <a:ext cx="8915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teracy is an extension of orality.  That means that there are parallels in the way literacy and orality are learned.  </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ocial context is central to the learning of orality and literacy.  How much did you learn about writing just copying things from the board or writing papers that only the teacher saw?  Those are examples of literacy that is removed from the social context.  In contrast, when there is a connection to social context, children learn more.  Many teachers have found lots of ways of making writing and reading social experienc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ore stuff to remember</a:t>
            </a:r>
            <a:endParaRPr b="0" i="1" lang="en-US" sz="4400" spc="-1" strike="noStrike">
              <a:solidFill>
                <a:srgbClr val="ffcc66"/>
              </a:solidFill>
              <a:latin typeface="Times New Roman"/>
            </a:endParaRPr>
          </a:p>
        </p:txBody>
      </p:sp>
      <p:sp>
        <p:nvSpPr>
          <p:cNvPr id="167" name="PlaceHolder 2"/>
          <p:cNvSpPr>
            <a:spLocks noGrp="1"/>
          </p:cNvSpPr>
          <p:nvPr>
            <p:ph/>
          </p:nvPr>
        </p:nvSpPr>
        <p:spPr>
          <a:xfrm>
            <a:off x="304560" y="2057400"/>
            <a:ext cx="8839080" cy="4191120"/>
          </a:xfrm>
          <a:prstGeom prst="rect">
            <a:avLst/>
          </a:prstGeom>
          <a:noFill/>
          <a:ln w="0">
            <a:noFill/>
          </a:ln>
        </p:spPr>
        <p:txBody>
          <a:bodyPr lIns="92160" rIns="92160" tIns="46080" bIns="46080" anchor="t">
            <a:normAutofit fontScale="96000"/>
          </a:bodyPr>
          <a:p>
            <a:pPr marL="585000" indent="-585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ust as every child has a different initial vocabulary, every child will have a different process of learning to read.</a:t>
            </a:r>
            <a:endParaRPr b="0" lang="en-US" sz="2800" spc="-1" strike="noStrike">
              <a:solidFill>
                <a:srgbClr val="ffffcc"/>
              </a:solidFill>
              <a:latin typeface="Times New Roman"/>
            </a:endParaRPr>
          </a:p>
          <a:p>
            <a:pPr marL="585000" indent="-585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arning to read involves epiphanies—that sudden connection of the sight of a word with its sound and meaning. We never know which experience will lead a child to this epiphany, so we must give them many opportunities</a:t>
            </a:r>
            <a:endParaRPr b="0" lang="en-US" sz="2800" spc="-1" strike="noStrike">
              <a:solidFill>
                <a:srgbClr val="ffffcc"/>
              </a:solidFill>
              <a:latin typeface="Times New Roman"/>
            </a:endParaRPr>
          </a:p>
          <a:p>
            <a:pPr marL="585000" indent="-585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 approximate and then become conventional through the social experiences over time.  You will probably see evidence of this in your classroom.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s for you</a:t>
            </a:r>
            <a:endParaRPr b="0" i="1" lang="en-US" sz="4400" spc="-1" strike="noStrike">
              <a:solidFill>
                <a:srgbClr val="ffcc66"/>
              </a:solidFill>
              <a:latin typeface="Times New Roman"/>
            </a:endParaRPr>
          </a:p>
        </p:txBody>
      </p:sp>
      <p:sp>
        <p:nvSpPr>
          <p:cNvPr id="16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parallels do you see between language/literacy development and musical development in childre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ight you scaffold children’s musical abiliti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nderstanding the cycle</a:t>
            </a:r>
            <a:endParaRPr b="0" i="1" lang="en-US" sz="4400" spc="-1" strike="noStrike">
              <a:solidFill>
                <a:srgbClr val="ffcc66"/>
              </a:solidFill>
              <a:latin typeface="Times New Roman"/>
            </a:endParaRPr>
          </a:p>
        </p:txBody>
      </p:sp>
      <p:sp>
        <p:nvSpPr>
          <p:cNvPr id="103" name="PlaceHolder 2"/>
          <p:cNvSpPr>
            <a:spLocks noGrp="1"/>
          </p:cNvSpPr>
          <p:nvPr>
            <p:ph/>
          </p:nvPr>
        </p:nvSpPr>
        <p:spPr>
          <a:xfrm>
            <a:off x="304920" y="2057400"/>
            <a:ext cx="8610480" cy="419112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ildren attempt to communicate and their communication is received either successfully (positive feedback) or unsuccessfully (negative feedback).  </a:t>
            </a:r>
            <a:endParaRPr b="0" lang="en-US" sz="2800" spc="-1" strike="noStrike">
              <a:solidFill>
                <a:srgbClr val="ffffcc"/>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nk of the baby who happens to babble “mamamamamama” in front of his/her maternal parent.  What does the parent say???  “You said ‘mama’!!!!!!!!”  This is an example of when the child’s </a:t>
            </a:r>
            <a:r>
              <a:rPr b="0" i="1" lang="en-US" sz="2800" spc="-1" strike="noStrike" u="sng">
                <a:solidFill>
                  <a:srgbClr val="ffffcc"/>
                </a:solidFill>
                <a:uFillTx/>
                <a:latin typeface="Times New Roman"/>
              </a:rPr>
              <a:t>approximation</a:t>
            </a:r>
            <a:r>
              <a:rPr b="0" lang="en-US" sz="2800" spc="-1" strike="noStrike">
                <a:solidFill>
                  <a:srgbClr val="ffffcc"/>
                </a:solidFill>
                <a:latin typeface="Times New Roman"/>
              </a:rPr>
              <a:t> of language is acceptable to the listener and the listener gives a whole lot of positive feedback.  This positive feedback encourages the child to try again and to try more word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nderstanding the cycle</a:t>
            </a:r>
            <a:endParaRPr b="0" i="1" lang="en-US" sz="4400" spc="-1" strike="noStrike">
              <a:solidFill>
                <a:srgbClr val="ffcc66"/>
              </a:solidFill>
              <a:latin typeface="Times New Roman"/>
            </a:endParaRPr>
          </a:p>
        </p:txBody>
      </p:sp>
      <p:sp>
        <p:nvSpPr>
          <p:cNvPr id="105" name="PlaceHolder 2"/>
          <p:cNvSpPr>
            <a:spLocks noGrp="1"/>
          </p:cNvSpPr>
          <p:nvPr>
            <p:ph/>
          </p:nvPr>
        </p:nvSpPr>
        <p:spPr>
          <a:xfrm>
            <a:off x="228600" y="2057400"/>
            <a:ext cx="86868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metimes the child’s attempt to communicate is met with a negative reception.  For example, some children have idiosyncratic language.  For example, my niece used to call raisins “winkies,” for some unknown reason.  Within the family, that was okay.  We all knew what she was talking about.  But someone outside the family would not have understood her.  When a child’s attempt to communicate is not understood, the child receives negative feedback.  This encourages the child to learn to speak the same way that other people speak.  In my niece’s case, she learned the “correct” name for raisins.</a:t>
            </a:r>
            <a:endParaRPr b="0" lang="en-US" sz="2800" spc="-1" strike="noStrike">
              <a:solidFill>
                <a:srgbClr val="ffffcc"/>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pproximation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is critical is to remember that babies are not capable of pronouncing words correctly.  So they have to do something that is an approximation.  It is in the right ballpark, maybe, but it is not the same way an older child might pronounce the same word.  You might want to ask your parents about your own early language development and find out how you approximated words as a bab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pproximation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ver time, children’s approximations of language become better and better through the feedback cycle.  The positive feedback encourages them to keep trying.  The negative feedback encourages them to make their approximations bett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nderstanding the cycle</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ildren’s language evolves using this cycle toward more effective, e.g., conventional communica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ventionality</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ncept of conventionality is critical to understan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nguage is “conventional,” in the sense that there are certain practices that all competent language users adopt—conventions.  We may each say unique things but we do so using syntax (word order/grammar) that is conventional.  Otherwise we risk the possibility that our unique message may not be understood.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1:11:11Z</dcterms:created>
  <dc:creator> </dc:creator>
  <dc:description/>
  <dc:language>en-US</dc:language>
  <cp:lastModifiedBy>Capital University</cp:lastModifiedBy>
  <dcterms:modified xsi:type="dcterms:W3CDTF">2005-06-14T15:52:53Z</dcterms:modified>
  <cp:revision>35</cp:revision>
  <dc:subject/>
  <dc:title>Language and Literacy Development</dc:title>
</cp:coreProperties>
</file>